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2670" spc="-1" strike="noStrike">
                <a:solidFill>
                  <a:srgbClr val="000000"/>
                </a:solidFill>
                <a:latin typeface="Arial"/>
                <a:ea typeface="Arial"/>
              </a:defRPr>
            </a:pPr>
            <a:r>
              <a:rPr b="0" sz="2670" spc="-1" strike="noStrike">
                <a:solidFill>
                  <a:srgbClr val="000000"/>
                </a:solidFill>
                <a:latin typeface="Arial"/>
                <a:ea typeface="Arial"/>
              </a:rPr>
              <a:t>Running time</a:t>
            </a:r>
          </a:p>
        </c:rich>
      </c:tx>
      <c:layout>
        <c:manualLayout>
          <c:xMode val="edge"/>
          <c:yMode val="edge"/>
          <c:x val="0.376973885656795"/>
          <c:y val="0.0199374782910733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8591487686453"/>
          <c:y val="0.132546022924627"/>
          <c:w val="0.796509339049035"/>
          <c:h val="0.847585967349774"/>
        </c:manualLayout>
      </c:layout>
      <c:lineChart>
        <c:grouping val="standard"/>
        <c:varyColors val="0"/>
        <c:ser>
          <c:idx val="0"/>
          <c:order val="0"/>
          <c:tx>
            <c:strRef>
              <c:f>categories</c:f>
              <c:strCache>
                <c:ptCount val="1"/>
                <c:pt idx="0">
                  <c:v>1 2 3 4</c:v>
                </c:pt>
              </c:strCache>
            </c:strRef>
          </c:tx>
          <c:spPr>
            <a:solidFill>
              <a:srgbClr val="800080"/>
            </a:solidFill>
            <a:ln w="0">
              <a:solidFill>
                <a:srgbClr val="800080"/>
              </a:solidFill>
            </a:ln>
          </c:spPr>
          <c:marker>
            <c:symbol val="none"/>
          </c:marker>
          <c:dLbls>
            <c:txPr>
              <a:bodyPr wrap="none"/>
              <a:lstStyle/>
              <a:p>
                <a:pPr>
                  <a:defRPr b="0" sz="123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label 0</c:f>
              <c:strCache>
                <c:ptCount val="1"/>
                <c:pt idx="0">
                  <c:v>Running time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168</c:v>
                </c:pt>
                <c:pt idx="1">
                  <c:v>84</c:v>
                </c:pt>
                <c:pt idx="2">
                  <c:v>57</c:v>
                </c:pt>
                <c:pt idx="3">
                  <c:v>43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0"/>
        <c:axId val="56894429"/>
        <c:axId val="43915029"/>
      </c:lineChart>
      <c:catAx>
        <c:axId val="56894429"/>
        <c:scaling>
          <c:orientation val="minMax"/>
        </c:scaling>
        <c:delete val="0"/>
        <c:axPos val="b"/>
        <c:title>
          <c:tx>
            <c:rich>
              <a:bodyPr rot="0"/>
              <a:lstStyle/>
              <a:p>
                <a:pPr>
                  <a:defRPr b="0" sz="185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0" sz="185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ber of correlator nodes</a:t>
                </a:r>
              </a:p>
            </c:rich>
          </c:tx>
          <c:layout>
            <c:manualLayout>
              <c:xMode val="edge"/>
              <c:yMode val="edge"/>
              <c:x val="0.28507064432877"/>
              <c:y val="0.923515109412991"/>
            </c:manualLayout>
          </c:layout>
          <c:overlay val="0"/>
          <c:spPr>
            <a:noFill/>
            <a:ln w="0">
              <a:noFill/>
            </a:ln>
          </c:spPr>
        </c:title>
        <c:numFmt formatCode="General" sourceLinked="1"/>
        <c:majorTickMark val="out"/>
        <c:minorTickMark val="none"/>
        <c:tickLblPos val="low"/>
        <c:spPr>
          <a:ln w="0">
            <a:solidFill>
              <a:srgbClr val="000000"/>
            </a:solidFill>
          </a:ln>
        </c:spPr>
        <c:txPr>
          <a:bodyPr/>
          <a:lstStyle/>
          <a:p>
            <a:pPr>
              <a:defRPr b="0" sz="144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43915029"/>
        <c:crossesAt val="0"/>
        <c:auto val="1"/>
        <c:lblAlgn val="ctr"/>
        <c:lblOffset val="100"/>
        <c:noMultiLvlLbl val="0"/>
      </c:catAx>
      <c:valAx>
        <c:axId val="43915029"/>
        <c:scaling>
          <c:orientation val="minMax"/>
        </c:scaling>
        <c:delete val="0"/>
        <c:axPos val="l"/>
        <c:majorGridlines>
          <c:spPr>
            <a:ln w="0">
              <a:solidFill>
                <a:srgbClr val="000000"/>
              </a:solidFill>
            </a:ln>
          </c:spPr>
        </c:majorGridlines>
        <c:title>
          <c:tx>
            <c:rich>
              <a:bodyPr rot="-5400000"/>
              <a:lstStyle/>
              <a:p>
                <a:pPr>
                  <a:defRPr b="0" sz="185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0" sz="185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conds</a:t>
                </a:r>
              </a:p>
            </c:rich>
          </c:tx>
          <c:layout>
            <c:manualLayout>
              <c:xMode val="edge"/>
              <c:yMode val="edge"/>
              <c:x val="0.0198591487686453"/>
              <c:y val="0.383813824244529"/>
            </c:manualLayout>
          </c:layout>
          <c:overlay val="0"/>
          <c:spPr>
            <a:noFill/>
            <a:ln w="0">
              <a:noFill/>
            </a:ln>
          </c:spPr>
        </c:title>
        <c:numFmt formatCode="General" sourceLinked="1"/>
        <c:majorTickMark val="out"/>
        <c:minorTickMark val="none"/>
        <c:tickLblPos val="nextTo"/>
        <c:spPr>
          <a:ln w="0">
            <a:solidFill>
              <a:srgbClr val="000000"/>
            </a:solidFill>
          </a:ln>
        </c:spPr>
        <c:txPr>
          <a:bodyPr/>
          <a:lstStyle/>
          <a:p>
            <a:pPr>
              <a:defRPr b="0" sz="144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56894429"/>
        <c:crosses val="min"/>
        <c:crossBetween val="between"/>
      </c:valAx>
      <c:spPr>
        <a:noFill/>
        <a:ln w="0">
          <a:noFill/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494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4968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3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64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4948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4948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5B6203-A740-4B27-BC25-7A2F14125A3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1143000" y="685800"/>
            <a:ext cx="45673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1143000" y="685800"/>
            <a:ext cx="45673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1143000" y="685800"/>
            <a:ext cx="45673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143000" y="685800"/>
            <a:ext cx="45705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1143000" y="685800"/>
            <a:ext cx="45529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1143000" y="685800"/>
            <a:ext cx="45705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143000" y="685800"/>
            <a:ext cx="45561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143000" y="685800"/>
            <a:ext cx="45561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1143000" y="685800"/>
            <a:ext cx="45561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1143000" y="685800"/>
            <a:ext cx="45673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AB1C-4BFA-4E7F-974F-D584758B6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0728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3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0728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39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0728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39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7A8A-7B80-47ED-9718-97F5FD447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0728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3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050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39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2720" y="1142640"/>
            <a:ext cx="40050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39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050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39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2720" y="3847680"/>
            <a:ext cx="40050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39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94C7-B9EF-417D-ACA8-80053D2DD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0728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3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2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39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2080" y="1142640"/>
            <a:ext cx="2642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39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6960" y="1142640"/>
            <a:ext cx="2642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39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2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39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2080" y="3847680"/>
            <a:ext cx="2642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39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6960" y="3847680"/>
            <a:ext cx="2642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39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E478-D47D-439B-9E24-177C04155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0728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3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0728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3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0728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3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0728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39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0728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3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0500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39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2720" y="1142640"/>
            <a:ext cx="400500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39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0728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3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433440"/>
            <a:ext cx="820728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3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0728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3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050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39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2720" y="1142640"/>
            <a:ext cx="400500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39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050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39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0728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3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0728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3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0B4B-BBA2-4FE3-A1F4-13E5C04A7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0728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3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0500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39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2720" y="1142640"/>
            <a:ext cx="40050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39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2720" y="3847680"/>
            <a:ext cx="40050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39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0728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3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050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39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2720" y="1142640"/>
            <a:ext cx="40050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39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0728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39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0728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3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0728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39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0728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39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0728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3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050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39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2720" y="1142640"/>
            <a:ext cx="40050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39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050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39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2720" y="3847680"/>
            <a:ext cx="40050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39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0728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3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2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39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2080" y="1142640"/>
            <a:ext cx="2642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39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960" y="1142640"/>
            <a:ext cx="2642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39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2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39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2080" y="3847680"/>
            <a:ext cx="2642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39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960" y="3847680"/>
            <a:ext cx="2642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39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0728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3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0728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39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7CD3-B971-4AED-B363-74499271C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0728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3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0500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39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2720" y="1142640"/>
            <a:ext cx="400500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39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9C89-EAB6-42C6-B62C-B60B9F3C9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0728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3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E3FB-08B1-406C-BCE0-8798131A5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33440"/>
            <a:ext cx="820728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3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7263-70BC-4BF2-AB4E-12488ACBF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0728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3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050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39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2720" y="1142640"/>
            <a:ext cx="400500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39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050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39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0383-1322-4C4D-8AAE-3A7C8295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0728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3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0500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39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2720" y="1142640"/>
            <a:ext cx="40050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39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2720" y="3847680"/>
            <a:ext cx="40050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39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556E-DEBD-4BE8-A68A-C9FCA94B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0728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3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050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39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2720" y="1142640"/>
            <a:ext cx="40050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39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0728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39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08EB-D987-45B3-8F03-2E9DC393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30320" y="6059520"/>
            <a:ext cx="9013680" cy="722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0728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3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0728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03040" indent="-203040">
              <a:lnSpc>
                <a:spcPct val="39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39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39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39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39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39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39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527520"/>
            <a:ext cx="150192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057400" y="6527520"/>
            <a:ext cx="416880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24120" y="6527520"/>
            <a:ext cx="89244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Times New Roman"/>
              </a:rPr>
              <a:t>Slide #</a:t>
            </a:r>
            <a:fld id="{A6EAF712-7326-4430-8835-CB10B44E3D6D}" type="slidenum">
              <a:rPr b="0" lang="en-GB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50080" cy="19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3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28600" y="5000760"/>
            <a:ext cx="8915400" cy="1724040"/>
            <a:chOff x="228600" y="5000760"/>
            <a:chExt cx="8915400" cy="172404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886200" y="5051520"/>
              <a:ext cx="5257800" cy="16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228600" y="5000760"/>
              <a:ext cx="3809880" cy="17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072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03040" indent="-203040">
              <a:lnSpc>
                <a:spcPct val="39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39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39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39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39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39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39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2514600"/>
            <a:ext cx="84582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Design of a parallel software correlator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35049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Nico Kruith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Joint Institute for VLBI in Europe (J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The Nether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453960"/>
            <a:ext cx="822492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Correlator node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3280" cy="50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03040" indent="-2030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rrelates time slice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ceives the 1 or 2 bit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erforms the cor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lay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rre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nds the correlation product to the output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029200" y="2514600"/>
            <a:ext cx="3200400" cy="205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rrelator 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57800" y="4114800"/>
            <a:ext cx="2743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output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257800" y="2514600"/>
            <a:ext cx="2743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ultiple input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6629400" y="4554360"/>
            <a:ext cx="1440" cy="492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5486400" y="2039760"/>
            <a:ext cx="1440" cy="492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039760"/>
            <a:ext cx="1440" cy="492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400800" y="2039760"/>
            <a:ext cx="1440" cy="492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6858000" y="2039760"/>
            <a:ext cx="1440" cy="492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7315200" y="2039760"/>
            <a:ext cx="1440" cy="492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7772400" y="2039760"/>
            <a:ext cx="1440" cy="492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ign of a parallel software correlat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3F92-AECE-4B2F-80FA-DC7C114E510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5th, 2007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453960"/>
            <a:ext cx="822492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Output node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3280" cy="50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03040" indent="-203040">
              <a:lnSpc>
                <a:spcPct val="74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ceives the output from the correlator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lnSpc>
                <a:spcPct val="74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rts the sl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lnSpc>
                <a:spcPct val="74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rites the output to disk for further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029200" y="2514600"/>
            <a:ext cx="3200400" cy="205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utput 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257800" y="4114800"/>
            <a:ext cx="2743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output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257800" y="2514600"/>
            <a:ext cx="2743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ultiple input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6629400" y="4554360"/>
            <a:ext cx="1440" cy="492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5486400" y="2039760"/>
            <a:ext cx="1440" cy="492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5943600" y="2039760"/>
            <a:ext cx="1440" cy="492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6400800" y="2039760"/>
            <a:ext cx="1440" cy="492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6858000" y="2039760"/>
            <a:ext cx="1440" cy="492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7315200" y="2039760"/>
            <a:ext cx="1440" cy="492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7772400" y="2039760"/>
            <a:ext cx="1440" cy="492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ign of a parallel software correlat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DBAD-FA4E-4C10-93B2-9C924EEA69B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5th, 2007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453960"/>
            <a:ext cx="822492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Manager node &amp; Log node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50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03040" indent="-203040">
              <a:lnSpc>
                <a:spcPct val="74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andles the entire correlation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lnSpc>
                <a:spcPct val="74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itialises the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lnSpc>
                <a:spcPct val="74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legates time slices to the correlator nodes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lnSpc>
                <a:spcPct val="74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ceives log messages from all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029200" y="1371600"/>
            <a:ext cx="3200400" cy="205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nager 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029200" y="3657600"/>
            <a:ext cx="3200400" cy="205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g 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ign of a parallel software correlat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2BDE-61B1-4E87-997D-86A68A764CD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5th, 2007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Preliminary result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457200" y="1143000"/>
          <a:ext cx="8229600" cy="51814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312" name=""/>
          <p:cNvSpPr/>
          <p:nvPr/>
        </p:nvSpPr>
        <p:spPr>
          <a:xfrm>
            <a:off x="5943600" y="1754280"/>
            <a:ext cx="2840040" cy="96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 AMD dual cores, 2G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 Gb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stored locally on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ign of a parallel software correlat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E8C4-DF5E-4738-9E60-F051662B315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5th, 2007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433440"/>
            <a:ext cx="820908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3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VLBI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206360" y="1143000"/>
            <a:ext cx="633744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44680"/>
            <a:ext cx="82281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Software correlator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343400" y="43434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60640" y="2595600"/>
            <a:ext cx="2982960" cy="24336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97400" y="2209680"/>
            <a:ext cx="1440" cy="9907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432400" y="22860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22860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71800" y="1546200"/>
            <a:ext cx="739800" cy="739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203800" y="1546200"/>
            <a:ext cx="739800" cy="739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114800" y="1546200"/>
            <a:ext cx="739800" cy="739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200400" y="3200400"/>
            <a:ext cx="25146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anchorCtr="1">
            <a:noAutofit/>
          </a:bodyPr>
          <a:p>
            <a:pPr algn="ctr">
              <a:lnSpc>
                <a:spcPct val="4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lay Cor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00400" y="3886200"/>
            <a:ext cx="25146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4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r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44840" y="365760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1711440"/>
            <a:ext cx="21034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4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lesco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5486400"/>
            <a:ext cx="21034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4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3429000"/>
            <a:ext cx="21034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4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ftware corre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114800" y="5257800"/>
            <a:ext cx="457200" cy="6858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ign of a parallel software correlat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E03C-3DD7-42E0-B0F0-A0BCC680556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5th, 2007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453960"/>
            <a:ext cx="821052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Software correlator: detail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86480" y="114444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ation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39120" y="114300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atio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98640" y="11444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ation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6280" y="1600200"/>
            <a:ext cx="97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put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302840" y="251460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hannel extr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77360" y="3657600"/>
            <a:ext cx="147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lay corr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06440" y="4572000"/>
            <a:ext cx="107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rre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93120" y="297180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lay t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53120" y="5257800"/>
            <a:ext cx="80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97080" y="6094440"/>
            <a:ext cx="250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st-processing and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24360" y="1600200"/>
            <a:ext cx="457200" cy="4572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24360" y="251460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5" idx="3"/>
            <a:endCxn id="136" idx="0"/>
          </p:cNvCxnSpPr>
          <p:nvPr/>
        </p:nvCxnSpPr>
        <p:spPr>
          <a:xfrm>
            <a:off x="3252960" y="2057400"/>
            <a:ext cx="2160" cy="45792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38" name=""/>
          <p:cNvSpPr/>
          <p:nvPr/>
        </p:nvSpPr>
        <p:spPr>
          <a:xfrm>
            <a:off x="2449440" y="2971800"/>
            <a:ext cx="457200" cy="2286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24360" y="365760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36" idx="2"/>
            <a:endCxn id="139" idx="0"/>
          </p:cNvCxnSpPr>
          <p:nvPr/>
        </p:nvCxnSpPr>
        <p:spPr>
          <a:xfrm>
            <a:off x="3252960" y="2971440"/>
            <a:ext cx="2160" cy="68652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41" name=""/>
          <p:cNvCxnSpPr>
            <a:stCxn id="138" idx="3"/>
            <a:endCxn id="139" idx="0"/>
          </p:cNvCxnSpPr>
          <p:nvPr/>
        </p:nvCxnSpPr>
        <p:spPr>
          <a:xfrm>
            <a:off x="2677680" y="3200400"/>
            <a:ext cx="577080" cy="457920"/>
          </a:xfrm>
          <a:prstGeom prst="curvedConnector5">
            <a:avLst>
              <a:gd name="adj1" fmla="val 50000"/>
              <a:gd name="adj2" fmla="val 49960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4624560" y="4572000"/>
            <a:ext cx="457200" cy="457200"/>
          </a:xfrm>
          <a:prstGeom prst="plus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395960" y="1600200"/>
            <a:ext cx="457200" cy="4572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395960" y="251460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3" idx="3"/>
            <a:endCxn id="144" idx="0"/>
          </p:cNvCxnSpPr>
          <p:nvPr/>
        </p:nvCxnSpPr>
        <p:spPr>
          <a:xfrm>
            <a:off x="4624560" y="2057400"/>
            <a:ext cx="2160" cy="45792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46" name=""/>
          <p:cNvSpPr/>
          <p:nvPr/>
        </p:nvSpPr>
        <p:spPr>
          <a:xfrm>
            <a:off x="3821040" y="2971800"/>
            <a:ext cx="457200" cy="2286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395960" y="365760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4" idx="2"/>
            <a:endCxn id="147" idx="0"/>
          </p:cNvCxnSpPr>
          <p:nvPr/>
        </p:nvCxnSpPr>
        <p:spPr>
          <a:xfrm>
            <a:off x="4624560" y="2971440"/>
            <a:ext cx="2160" cy="68652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49" name=""/>
          <p:cNvCxnSpPr>
            <a:stCxn id="146" idx="3"/>
            <a:endCxn id="147" idx="0"/>
          </p:cNvCxnSpPr>
          <p:nvPr/>
        </p:nvCxnSpPr>
        <p:spPr>
          <a:xfrm>
            <a:off x="4049280" y="3200400"/>
            <a:ext cx="577080" cy="457920"/>
          </a:xfrm>
          <a:prstGeom prst="curvedConnector5">
            <a:avLst>
              <a:gd name="adj1" fmla="val 50000"/>
              <a:gd name="adj2" fmla="val 49960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6797520" y="1600200"/>
            <a:ext cx="457200" cy="4572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797520" y="251460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3"/>
            <a:endCxn id="151" idx="0"/>
          </p:cNvCxnSpPr>
          <p:nvPr/>
        </p:nvCxnSpPr>
        <p:spPr>
          <a:xfrm>
            <a:off x="7025760" y="2057400"/>
            <a:ext cx="2520" cy="45792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53" name=""/>
          <p:cNvSpPr/>
          <p:nvPr/>
        </p:nvSpPr>
        <p:spPr>
          <a:xfrm>
            <a:off x="6224760" y="2971800"/>
            <a:ext cx="457200" cy="2286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797520" y="365760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"/>
          <p:cNvCxnSpPr>
            <a:stCxn id="151" idx="2"/>
            <a:endCxn id="154" idx="0"/>
          </p:cNvCxnSpPr>
          <p:nvPr/>
        </p:nvCxnSpPr>
        <p:spPr>
          <a:xfrm>
            <a:off x="7025760" y="2971440"/>
            <a:ext cx="2520" cy="68652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56" name=""/>
          <p:cNvCxnSpPr>
            <a:stCxn id="153" idx="3"/>
            <a:endCxn id="154" idx="0"/>
          </p:cNvCxnSpPr>
          <p:nvPr/>
        </p:nvCxnSpPr>
        <p:spPr>
          <a:xfrm>
            <a:off x="6453000" y="3200400"/>
            <a:ext cx="573480" cy="457920"/>
          </a:xfrm>
          <a:prstGeom prst="curvedConnector5">
            <a:avLst>
              <a:gd name="adj1" fmla="val 50000"/>
              <a:gd name="adj2" fmla="val 49960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57" name=""/>
          <p:cNvCxnSpPr>
            <a:stCxn id="139" idx="2"/>
            <a:endCxn id="142" idx="0"/>
          </p:cNvCxnSpPr>
          <p:nvPr/>
        </p:nvCxnSpPr>
        <p:spPr>
          <a:xfrm>
            <a:off x="3252600" y="4114800"/>
            <a:ext cx="1600920" cy="457920"/>
          </a:xfrm>
          <a:prstGeom prst="curvedConnector5">
            <a:avLst>
              <a:gd name="adj1" fmla="val 50000"/>
              <a:gd name="adj2" fmla="val 49960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58" name=""/>
          <p:cNvCxnSpPr>
            <a:stCxn id="147" idx="2"/>
            <a:endCxn id="142" idx="0"/>
          </p:cNvCxnSpPr>
          <p:nvPr/>
        </p:nvCxnSpPr>
        <p:spPr>
          <a:xfrm>
            <a:off x="4624200" y="4114800"/>
            <a:ext cx="229320" cy="457920"/>
          </a:xfrm>
          <a:prstGeom prst="curvedConnector5">
            <a:avLst>
              <a:gd name="adj1" fmla="val 50000"/>
              <a:gd name="adj2" fmla="val 49960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59" name=""/>
          <p:cNvCxnSpPr>
            <a:stCxn id="154" idx="2"/>
            <a:endCxn id="142" idx="0"/>
          </p:cNvCxnSpPr>
          <p:nvPr/>
        </p:nvCxnSpPr>
        <p:spPr>
          <a:xfrm flipV="1" rot="10800000">
            <a:off x="4852440" y="4114440"/>
            <a:ext cx="2173680" cy="457920"/>
          </a:xfrm>
          <a:prstGeom prst="curvedConnector5">
            <a:avLst>
              <a:gd name="adj1" fmla="val 49991"/>
              <a:gd name="adj2" fmla="val 49960"/>
              <a:gd name="adj3" fmla="val 49991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0" name=""/>
          <p:cNvSpPr/>
          <p:nvPr/>
        </p:nvSpPr>
        <p:spPr>
          <a:xfrm>
            <a:off x="5538960" y="1143000"/>
            <a:ext cx="37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24560" y="5257800"/>
            <a:ext cx="457200" cy="4572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2" idx="2"/>
            <a:endCxn id="161" idx="1"/>
          </p:cNvCxnSpPr>
          <p:nvPr/>
        </p:nvCxnSpPr>
        <p:spPr>
          <a:xfrm>
            <a:off x="4853160" y="502884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63" name=""/>
          <p:cNvCxnSpPr>
            <a:stCxn id="161" idx="3"/>
          </p:cNvCxnSpPr>
          <p:nvPr/>
        </p:nvCxnSpPr>
        <p:spPr>
          <a:xfrm flipH="1">
            <a:off x="4846320" y="5715000"/>
            <a:ext cx="7200" cy="349920"/>
          </a:xfrm>
          <a:prstGeom prst="straightConnector1">
            <a:avLst/>
          </a:prstGeom>
          <a:ln w="9360">
            <a:solidFill>
              <a:srgbClr val="000000"/>
            </a:solidFill>
            <a:round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ign of a parallel software correlat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755F-478A-4AB0-8A6D-D367CE7A41D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5th, 2007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343400" y="4572000"/>
            <a:ext cx="1440" cy="685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44680"/>
            <a:ext cx="82281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Software correlator on a cluster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60640" y="2595600"/>
            <a:ext cx="2982960" cy="24336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b">
            <a:noAutofit/>
          </a:bodyPr>
          <a:p>
            <a:pPr algn="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22640" y="2728800"/>
            <a:ext cx="507960" cy="2984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14800" y="2743200"/>
            <a:ext cx="507960" cy="2984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9800" y="2754360"/>
            <a:ext cx="507960" cy="2984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176640" y="3678120"/>
            <a:ext cx="298440" cy="298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060800" y="3697200"/>
            <a:ext cx="298440" cy="298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06840" y="3692520"/>
            <a:ext cx="298440" cy="298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13320" y="3676680"/>
            <a:ext cx="298440" cy="298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967280" y="3697200"/>
            <a:ext cx="298440" cy="298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462640" y="3686040"/>
            <a:ext cx="298440" cy="298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32160" y="3025800"/>
            <a:ext cx="1440" cy="650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332160" y="3027240"/>
            <a:ext cx="447840" cy="650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332160" y="3027240"/>
            <a:ext cx="895320" cy="669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332160" y="3027240"/>
            <a:ext cx="1341360" cy="665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332160" y="3027240"/>
            <a:ext cx="1789200" cy="650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332160" y="3025800"/>
            <a:ext cx="2236680" cy="658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760560" y="3040200"/>
            <a:ext cx="631800" cy="637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3762360" y="3052800"/>
            <a:ext cx="1674720" cy="625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332160" y="3027240"/>
            <a:ext cx="447840" cy="650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3314880" y="3052800"/>
            <a:ext cx="1077840" cy="62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3314520" y="3052800"/>
            <a:ext cx="2122200" cy="62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4208400" y="3025800"/>
            <a:ext cx="184320" cy="671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4210200" y="3052800"/>
            <a:ext cx="1226880" cy="646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332160" y="3027240"/>
            <a:ext cx="895320" cy="669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332160" y="3027240"/>
            <a:ext cx="895320" cy="669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375080" y="3052800"/>
            <a:ext cx="298440" cy="639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657320" y="3052800"/>
            <a:ext cx="779400" cy="639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332160" y="3027240"/>
            <a:ext cx="1341360" cy="665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375080" y="3052800"/>
            <a:ext cx="746280" cy="625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5103720" y="3052800"/>
            <a:ext cx="333360" cy="625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32160" y="3027240"/>
            <a:ext cx="1789200" cy="650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375080" y="3027240"/>
            <a:ext cx="1193760" cy="658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419800" y="3052800"/>
            <a:ext cx="149040" cy="633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227480" y="4432320"/>
            <a:ext cx="298440" cy="29844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32160" y="3976560"/>
            <a:ext cx="1042920" cy="4572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780000" y="3976560"/>
            <a:ext cx="596880" cy="4572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227480" y="3995640"/>
            <a:ext cx="149400" cy="438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357800" y="3990960"/>
            <a:ext cx="333360" cy="442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4357440" y="3994200"/>
            <a:ext cx="780840" cy="438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4358880" y="3983040"/>
            <a:ext cx="1227240" cy="4492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30240" y="1828800"/>
            <a:ext cx="13478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lesco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30240" y="2724120"/>
            <a:ext cx="1373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put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14400" y="3684600"/>
            <a:ext cx="1879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rrelator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14400" y="4440240"/>
            <a:ext cx="14367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utput 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943600" y="3200400"/>
            <a:ext cx="2971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943600" y="3997440"/>
            <a:ext cx="22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4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rting and mer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943600" y="3200400"/>
            <a:ext cx="2690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ime and channel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114800" y="5257800"/>
            <a:ext cx="457200" cy="6858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397400" y="220968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432400" y="2251080"/>
            <a:ext cx="1440" cy="492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427560" y="2251080"/>
            <a:ext cx="1440" cy="492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2971800" y="1546200"/>
            <a:ext cx="739800" cy="7398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5203800" y="1546200"/>
            <a:ext cx="739800" cy="7398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4114800" y="1546200"/>
            <a:ext cx="739800" cy="73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ign of a parallel software correlat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84B5-15F0-469B-B6AA-91B30FBE7FC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5th, 2007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1376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4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Outline of the correlator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343400" y="2057400"/>
            <a:ext cx="1440" cy="34290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886200" y="11430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3200400" y="2514600"/>
            <a:ext cx="2286000" cy="345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b">
            <a:noAutofit/>
          </a:bodyPr>
          <a:p>
            <a:pPr algn="ctr">
              <a:lnSpc>
                <a:spcPct val="4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annel ext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3429000" y="4568760"/>
            <a:ext cx="1440" cy="255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657600" y="4568760"/>
            <a:ext cx="1440" cy="255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3886200" y="4568760"/>
            <a:ext cx="1440" cy="255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4800600" y="4568760"/>
            <a:ext cx="1440" cy="255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00400" y="3200400"/>
            <a:ext cx="2286000" cy="345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b">
            <a:noAutofit/>
          </a:bodyPr>
          <a:p>
            <a:pPr algn="ctr">
              <a:lnSpc>
                <a:spcPct val="4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ime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00400" y="3886200"/>
            <a:ext cx="2286000" cy="345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b">
            <a:noAutofit/>
          </a:bodyPr>
          <a:p>
            <a:pPr algn="ctr">
              <a:lnSpc>
                <a:spcPct val="4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5027760" y="4568760"/>
            <a:ext cx="1440" cy="255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5256360" y="4568760"/>
            <a:ext cx="1440" cy="255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114800" y="4568760"/>
            <a:ext cx="1440" cy="255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4572000" y="4568760"/>
            <a:ext cx="1440" cy="255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14800" y="5487840"/>
            <a:ext cx="457200" cy="6858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" y="2854440"/>
            <a:ext cx="39466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annels: collection of several tra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" y="2168640"/>
            <a:ext cx="24811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cks: total 32/64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3540240"/>
            <a:ext cx="39466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annels: collection of several tra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4226040"/>
            <a:ext cx="15638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loat / dou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00400" y="4802040"/>
            <a:ext cx="2286000" cy="346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b">
            <a:noAutofit/>
          </a:bodyPr>
          <a:p>
            <a:pPr algn="ctr">
              <a:lnSpc>
                <a:spcPct val="4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r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715000" y="2514600"/>
            <a:ext cx="21430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ear, inexpen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715000" y="3200400"/>
            <a:ext cx="21430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ear, inexpen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715000" y="3886200"/>
            <a:ext cx="19652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ear, expen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715000" y="4800600"/>
            <a:ext cx="1170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adr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157400" y="1482840"/>
            <a:ext cx="1357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ndwi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951520" y="1600200"/>
            <a:ext cx="15922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5140440"/>
            <a:ext cx="2486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loat / double, low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ign of a parallel software correlat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1B74-31BD-49DD-94F6-8D0EC8F871D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5th, 2007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1376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4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Outline of the correlator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36960" y="2514600"/>
            <a:ext cx="422280" cy="1371600"/>
          </a:xfrm>
          <a:custGeom>
            <a:avLst/>
            <a:gdLst>
              <a:gd name="textAreaLeft" fmla="*/ 0 w 422280"/>
              <a:gd name="textAreaRight" fmla="*/ 152280 w 42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5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828800" y="2286000"/>
            <a:ext cx="1440" cy="32004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85800" y="2743200"/>
            <a:ext cx="2286000" cy="345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b">
            <a:noAutofit/>
          </a:bodyPr>
          <a:p>
            <a:pPr algn="ctr">
              <a:lnSpc>
                <a:spcPct val="4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annel ext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914400" y="4567320"/>
            <a:ext cx="1440" cy="255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1143000" y="4567320"/>
            <a:ext cx="1440" cy="255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1371600" y="4567320"/>
            <a:ext cx="1440" cy="255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2286000" y="4567320"/>
            <a:ext cx="1440" cy="255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3429000"/>
            <a:ext cx="2286000" cy="345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b">
            <a:noAutofit/>
          </a:bodyPr>
          <a:p>
            <a:pPr algn="ctr">
              <a:lnSpc>
                <a:spcPct val="4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ime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4114800"/>
            <a:ext cx="2286000" cy="345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b">
            <a:noAutofit/>
          </a:bodyPr>
          <a:p>
            <a:pPr algn="ctr">
              <a:lnSpc>
                <a:spcPct val="4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85800" y="4800600"/>
            <a:ext cx="2286000" cy="345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b">
            <a:noAutofit/>
          </a:bodyPr>
          <a:p>
            <a:pPr algn="ctr">
              <a:lnSpc>
                <a:spcPct val="4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r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2513160" y="4567320"/>
            <a:ext cx="1440" cy="255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2741760" y="4567320"/>
            <a:ext cx="1440" cy="255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1600200" y="4567320"/>
            <a:ext cx="1440" cy="255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2057400" y="4567320"/>
            <a:ext cx="1440" cy="255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006720" y="3886200"/>
            <a:ext cx="422280" cy="1371600"/>
          </a:xfrm>
          <a:custGeom>
            <a:avLst/>
            <a:gdLst>
              <a:gd name="textAreaLeft" fmla="*/ 0 w 422280"/>
              <a:gd name="textAreaRight" fmla="*/ 152280 w 42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5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541680" y="2971800"/>
            <a:ext cx="12589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put 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541680" y="4343400"/>
            <a:ext cx="16891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rrelate 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570120" y="5486400"/>
            <a:ext cx="14367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utput 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600200" y="5486400"/>
            <a:ext cx="457200" cy="6858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ign of a parallel software correlat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924A-7E04-4A69-9731-7307C8F63AB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5th, 2007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1376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4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Design of a node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13760" cy="51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03040" indent="-20304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ach node is a state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ach node h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veral control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log wri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unctionality for delegating MPI message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controller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ess MPI message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amples of controllers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andeling input/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dicated controllers for the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ign of a parallel software correlat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2FA9-C38A-44E5-AB66-DFCB678BEDB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5th, 2007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433440"/>
            <a:ext cx="8224920" cy="60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Input node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3280" cy="51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03040" indent="-2030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ad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rectly from telesco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played from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ecks validity of the da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ime sta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RC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nds time slices to the correlate nodes (1 or 2 bit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2514600"/>
            <a:ext cx="3200400" cy="205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put 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629400" y="2039760"/>
            <a:ext cx="1440" cy="492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5486400" y="4554360"/>
            <a:ext cx="1440" cy="492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5943600" y="4554360"/>
            <a:ext cx="1440" cy="492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6400800" y="4554360"/>
            <a:ext cx="1440" cy="492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6858000" y="4554360"/>
            <a:ext cx="1440" cy="492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57800" y="4114800"/>
            <a:ext cx="2743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ultiple output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2514600"/>
            <a:ext cx="2743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input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7315200" y="4554360"/>
            <a:ext cx="1440" cy="492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7772400" y="4554360"/>
            <a:ext cx="1440" cy="492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ign of a parallel software correlat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993C-21EE-43DD-805F-D441F68053F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5th, 2007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Slide 1</dc:title>
</cp:coreProperties>
</file>